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2CF1-62F5-44F9-83B3-805D770C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1D08-ABD5-4249-B90F-CEDB59A2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077-F818-489E-AA8F-CCDEBCBF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7AA-FB3E-4FD1-9DDB-1D2C6DDD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75B-43BE-4143-AB54-F282D96D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C03-D3DF-46E7-8008-F8A15AB1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F92-F708-4D5F-AC11-60B3F052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5110-D687-449E-BCE5-1933B820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D1C-C8EA-44B5-86A3-9E4BCFA0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404-4E48-438C-B015-9B490D09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A02D-6476-4109-BFA5-902DD61D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CF15-DEBD-4DC7-BAF8-85470821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3004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7200" y="6496200"/>
            <a:ext cx="1905120" cy="2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900" spc="-1" strike="noStrike">
                <a:solidFill>
                  <a:srgbClr val="000000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&lt;date/time&gt;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2005/12/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48480" y="6495840"/>
            <a:ext cx="249552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900" spc="-1" strike="noStrike">
                <a:solidFill>
                  <a:srgbClr val="000000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BenQ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Bocionek – Klebsch</a:t>
            </a:r>
            <a:r>
              <a:rPr b="0" lang="zh-TW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Minion"/>
                <a:ea typeface="文鼎中黑"/>
              </a:rPr>
              <a:t>&lt;date/time&gt;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2006/0</a:t>
            </a:r>
            <a:r>
              <a:rPr b="0" lang="de-DE" sz="900" spc="-1" strike="noStrike">
                <a:solidFill>
                  <a:srgbClr val="000000"/>
                </a:solidFill>
                <a:latin typeface="Minion"/>
                <a:ea typeface="文鼎中黑"/>
              </a:rPr>
              <a:t>1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/1</a:t>
            </a:r>
            <a:r>
              <a:rPr b="0" lang="de-DE" sz="900" spc="-1" strike="noStrike">
                <a:solidFill>
                  <a:srgbClr val="000000"/>
                </a:solidFill>
                <a:latin typeface="Minion"/>
                <a:ea typeface="文鼎中黑"/>
              </a:rPr>
              <a:t>8</a:t>
            </a:r>
            <a:r>
              <a:rPr b="0" lang="zh-TW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0" lang="zh-TW" sz="900" spc="-1" strike="noStrike">
                <a:solidFill>
                  <a:srgbClr val="000000"/>
                </a:solidFill>
                <a:latin typeface="Minion"/>
                <a:ea typeface="文鼎中黑"/>
              </a:rPr>
              <a:t>#</a:t>
            </a:r>
            <a:r>
              <a:rPr b="0" lang="zh-TW" sz="14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fld id="{0870878A-6DDC-4631-9C1A-BB12727FB1C3}" type="slidenum">
              <a:rPr b="1" lang="zh-TW" sz="1000" spc="-1" strike="noStrike">
                <a:solidFill>
                  <a:srgbClr val="000000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9680" y="4981680"/>
            <a:ext cx="457200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Uwe Schmitz, Karsten Rudol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文鼎中黑"/>
              </a:rPr>
              <a:t>Munich, March 20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451240"/>
            <a:ext cx="80755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  <a:ea typeface="文鼎中黑"/>
              </a:rPr>
              <a:t>Status „PLM Excellence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  <a:ea typeface="文鼎中黑"/>
              </a:rPr>
              <a:t>U2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  <a:ea typeface="文鼎中黑"/>
              </a:rPr>
              <a:t>From Proto-Agile to Full Ag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E91-41C4-44B4-9001-C8F3CC64E4B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rot="16200000">
            <a:off x="8086680" y="2462040"/>
            <a:ext cx="1620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From Proto-Agile to Full Agile“: U. Schmitz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„Agile with Scrum“ as standard software development pro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roduct backlog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crum team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print-based release plan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852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TDD (test-driven development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totype Agile in Ruby and Gemstone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djust organization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djust QMS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Kick-off for selected projects (01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Ruby project on Agile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Organization prepared for full agile transition (1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anager:  U. Schmitz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ead: Rudolph,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ead QA/QMS: Fillers/Grei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ilot-Agile within regular project reviews in the OPC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ilots/Full transition: monthly mgmt report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tart: Jan 06   End: Dec 06; continue from there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4559400" y="2257560"/>
            <a:ext cx="4262400" cy="403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Transition backlog reviewd, prioritization ongo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sulting contract, team and schedule and with Object Mentors agre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uby project:: first 4 Scrum teams in WRO finished their sprint with excellent results (high motivation, good achievements, positive experience and results with TDD by Unit testin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poxi: first Scrum teams started in W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ssues:  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:  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nish prioritization of transition backlog and Sprint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ecompose architecture of Ruby with OM on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efine and implement Scrum based requirements ha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efine detailed training schedule and content with 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etup Scrum teams in MCH and increase number in W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8307360" y="245376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8246880" y="221112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8511840" y="245376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FCC-F83C-4163-849C-35D30CA93D4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U2“: Rudolph, Fässl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875880"/>
            <a:ext cx="4077000" cy="33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cure TTM of Polaris, Swift, Swan, Kestrel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ork packages as key metric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mmitment drive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Open status communic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Fast reaction on issu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o compromise on qualit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EAMWOR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weekly reporting of commitment and fulfillment (01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Utilize reporting charts as project/PL control methods (02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nable team spirit and competition from reported results (03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U2 as practice in all projects (04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ork packackage table: PD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allcharts: TPM (Asmussen, Topel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Test Trends: PD (Wacker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anager U2: 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0160" y="876240"/>
            <a:ext cx="407664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allchart review: 60min every Wed (all involved PL SW and SW/ST managers)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HE board: JE + SB/WK + TPM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: Jan 06   End: Mar 06; continue from the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2460600"/>
            <a:ext cx="417852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Wallchart quality improved by additional metr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U2 Meetings regularly h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Team competition fostered by presenting U2 wallcharts and Shopping lists in team floors in WRO and MCH and KL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Dedicated U2 project control room established in MCH (E3.Rotunde 2nd floo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tinue with practice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Establish comparable ranking between teams of different platforms (Bundesligatabel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968-5DE1-4D72-A66F-291F961D28EA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Karsten Rudolph</cp:lastModifiedBy>
  <dcterms:modified xsi:type="dcterms:W3CDTF">2006-03-20T11:27:14Z</dcterms:modified>
  <cp:revision>348</cp:revision>
  <dc:subject/>
  <dc:title>PowerPoint 簡報</dc:title>
</cp:coreProperties>
</file>